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7F7-9EA3-42D6-8CF3-32D06B60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77F-B7D7-4654-9E77-338B095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D86-1241-47E0-9AFC-9A4053A3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1CC-4535-4109-9AC7-245F5AE6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2C1-F187-48C9-843C-3CAA228A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3BF5-B777-40EC-841F-062E219E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4F8B-FB2F-4BBB-B8EB-E5AF2758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6635-B901-4DBA-AE4A-AA5D24F2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1FC7-45BC-45AE-92FE-9FA6BC3A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0CFE-9082-466B-A0FE-3D601BC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3C0-6827-44B2-BA1E-827FB07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5BD-31F9-4ECC-85A2-310A25C9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066C-D5B7-4278-8343-289B265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0B2F-A6F3-47C6-8E41-2A4ECF9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D22A-04CE-4AE7-8D5B-895AB849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5DA4-2445-4186-95A8-1AB2645F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CD3D-343B-4A77-B3C2-D41F5D3E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848-609A-490C-A158-49C4A14F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C14-FF9A-4EBA-93BF-FF621DF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A48-3F0E-47C1-A3B1-CEAD3082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C31-CDA0-4059-A2F3-D14E21A0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1B3-A240-4283-9927-CF6BC05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68D-DA54-4CAA-8980-B24D7C0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E29-C2FB-4D11-B784-FDBE787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CAB-89E7-498C-AA16-96B731CEF2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9BF3-7A24-48C2-AAFB-74AC84EA02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560" y="27432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19320"/>
            <a:ext cx="918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he Curse of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Hope Diamo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505320" cy="30528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685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2060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6888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732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68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6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2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3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257640" y="2568600"/>
            <a:ext cx="1792080" cy="322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45680" y="5943600"/>
            <a:ext cx="81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woman who inherits or has a right of inheritance of considerable wealth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4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92240" y="179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9688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19280" y="182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246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19051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114800" cy="2667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921600" y="601992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irate ______open the treasure chest that was sea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42640" y="2098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561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208240" cy="27604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755720" cy="2666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581280" y="3200400"/>
            <a:ext cx="2121120" cy="2868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564480" y="6248520"/>
            <a:ext cx="39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amous, well known for some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160" y="274320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orge Washingt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7040" y="289548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il Armstr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28880" y="27748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be Ru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20600" y="175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07120" y="175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96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736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1920" y="5335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2081160" cy="28954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066320" y="574668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ing or spending in great am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83720" y="25146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ltmore 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53:02Z</dcterms:modified>
  <cp:revision>2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khend1@earthlink.net</vt:lpwstr>
  </property>
  <property fmtid="{D5CDD505-2E9C-101B-9397-08002B2CF9AE}" pid="3" name="_AuthorEmailDisplayName">
    <vt:lpwstr>Kim henderson</vt:lpwstr>
  </property>
  <property fmtid="{D5CDD505-2E9C-101B-9397-08002B2CF9AE}" pid="4" name="_EmailSubject">
    <vt:lpwstr>Please review 'The Curse of the Hope Diamond'</vt:lpwstr>
  </property>
  <property fmtid="{D5CDD505-2E9C-101B-9397-08002B2CF9AE}" pid="5" name="_NewReviewCycle">
    <vt:lpwstr/>
  </property>
  <property fmtid="{D5CDD505-2E9C-101B-9397-08002B2CF9AE}" pid="6" name="_ReviewCycleID">
    <vt:r8>1917053663</vt:r8>
  </property>
  <property fmtid="{D5CDD505-2E9C-101B-9397-08002B2CF9AE}" pid="7" name="_ReviewingToolsShownOnce">
    <vt:lpwstr/>
  </property>
  <property fmtid="{D5CDD505-2E9C-101B-9397-08002B2CF9AE}" pid="8" name="_TentativeReviewCycleID">
    <vt:r8>1917053663</vt:r8>
  </property>
</Properties>
</file>